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C56-6C78-409A-BE10-8B6DB556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C0B-FAD0-4EB6-B228-71B25FA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58C-56C4-4695-9985-299D3E14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89D-BFD5-4D08-BC40-26AF1BE1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4C23-46AE-4584-87C6-E70925919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9FB-3F77-40D2-A13E-8587EED7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AD0F-038E-414D-93E9-1A366904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F4D-4D58-4F95-9EFB-6B53741D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B91-D58D-45EC-81AF-38BCD33D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B32-0B60-4E55-A3B7-E590098B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5BEC-C466-4C2F-B2AF-DC19CD2C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D954-88A4-4787-955E-717F4DEB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6048-0786-4F60-8414-D03B27C9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3276720" y="476280"/>
            <a:ext cx="2808000" cy="2808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20640"/>
            <a:ext cx="1800000" cy="3024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5292360" y="3428640"/>
            <a:ext cx="2592360" cy="28083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49080" y="6237360"/>
            <a:ext cx="17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IRAR A  SO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81080" y="189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IRAR AQU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LOCAR AQ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0:46Z</dcterms:created>
  <dc:creator>ce</dc:creator>
  <dc:description/>
  <dc:language>en-US</dc:language>
  <cp:lastModifiedBy>ce</cp:lastModifiedBy>
  <dcterms:modified xsi:type="dcterms:W3CDTF">2008-09-09T17:20:55Z</dcterms:modified>
  <cp:revision>1</cp:revision>
  <dc:subject/>
  <dc:title>Slide 1</dc:title>
</cp:coreProperties>
</file>